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  <p:custShowLst>
    <p:custShow name="自訂放映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772-E57B-4446-A8C7-04FFA201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C3C-891D-4362-AE43-03CEB11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E9C-E163-49E3-A7C6-9DECE1F1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990-2958-4E7A-B4E4-E5DADF1F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2EE-9BCE-4159-ACDE-0138A3D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135-9B91-4973-8F16-A0C3A21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BD7-1858-442A-B25D-2882F6E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478-D264-4FE2-B8B9-9FF87AC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8F5-D27F-4702-9F00-5B84574D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181-C4FC-4BAC-BC42-66E91AB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8C7-3111-43D8-802C-1299904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F5C-7EFE-42B0-8092-673F977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5B23-E146-4E6F-AED5-503E25BF5DC0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4F2-B5E5-4C92-8448-B96CBA9F63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" Target="slide41.xml"/><Relationship Id="rId10" Type="http://schemas.openxmlformats.org/officeDocument/2006/relationships/slide" Target="slide87.xml"/><Relationship Id="rId11" Type="http://schemas.openxmlformats.org/officeDocument/2006/relationships/slide" Target="slide88.xml"/><Relationship Id="rId12" Type="http://schemas.openxmlformats.org/officeDocument/2006/relationships/slide" Target="slide30.xml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" Target="slide29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#031高速監控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#061機器人接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#062多色信號燈設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#063機械狀態輸出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#071標準選擇機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#072伺服診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#073輸入輸出診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#074加熱器管理設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#075PID參數設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#076自動溫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#081保養畫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#032射出波型監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#082警報履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#083訂單履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#084日期時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#086通信設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rId2" action="ppaction://hlinksldjump"/>
          </p:cNvPr>
          <p:cNvSpPr/>
          <p:nvPr/>
        </p:nvSpPr>
        <p:spPr>
          <a:xfrm>
            <a:off x="8567640" y="602136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FANUC ROBOSHOT S-2000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第七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机器的保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1" action="ppaction://hlinksldjump"/>
          </p:cNvPr>
          <p:cNvSpPr/>
          <p:nvPr/>
        </p:nvSpPr>
        <p:spPr>
          <a:xfrm>
            <a:off x="7596360" y="59500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1025640"/>
            <a:ext cx="7345440" cy="48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點檢事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安全裝置的檢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1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安全蓋限位開關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2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行程限位開關的檢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6" action="ppaction://hlinksldjump"/>
              </a:rPr>
              <a:t>加熱器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7" action="ppaction://hlinksldjump"/>
              </a:rPr>
              <a:t>可動部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8" action="ppaction://hlinksldjump"/>
              </a:rPr>
              <a:t>同步皮帶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9" action="ppaction://hlinksldjump"/>
              </a:rPr>
              <a:t>各部潤滑狀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10" action="ppaction://hlinksldjump"/>
              </a:rPr>
              <a:t>冷卻風扇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 u="sng">
                <a:solidFill>
                  <a:srgbClr val="7e9ce8"/>
                </a:solidFill>
                <a:uFillTx/>
                <a:latin typeface="Arial"/>
                <a:hlinkClick r:id="rId11" action="ppaction://hlinksldjump"/>
              </a:rPr>
              <a:t>水平調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電器配線的檢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95280" y="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各部的檢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12" action="ppaction://hlinksldjump"/>
          </p:cNvPr>
          <p:cNvSpPr/>
          <p:nvPr/>
        </p:nvSpPr>
        <p:spPr>
          <a:xfrm>
            <a:off x="684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>
            <a:hlinkClick r:id="" action="ppaction://hlinkshowjump?jump=endshow"/>
          </p:cNvPr>
          <p:cNvSpPr/>
          <p:nvPr/>
        </p:nvSpPr>
        <p:spPr>
          <a:xfrm>
            <a:off x="7740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20766" y="10800"/>
                </a:moveTo>
                <a:lnTo>
                  <a:pt x="10261" y="17806"/>
                </a:lnTo>
                <a:lnTo>
                  <a:pt x="10261" y="3794"/>
                </a:lnTo>
                <a:close/>
              </a:path>
              <a:path fill="darken" w="34534" h="21600">
                <a:moveTo>
                  <a:pt x="22611" y="3794"/>
                </a:moveTo>
                <a:lnTo>
                  <a:pt x="22611" y="17806"/>
                </a:lnTo>
                <a:lnTo>
                  <a:pt x="24274" y="17806"/>
                </a:lnTo>
                <a:lnTo>
                  <a:pt x="24274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5"/>
          <p:cNvGraphicFramePr/>
          <p:nvPr/>
        </p:nvGraphicFramePr>
        <p:xfrm>
          <a:off x="514440" y="473040"/>
          <a:ext cx="733104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73040"/>
                    <a:ext cx="733104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539640" y="165240"/>
          <a:ext cx="7059600" cy="669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5240"/>
                    <a:ext cx="705960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AutoShape 7">
            <a:hlinkClick r:id="" action="ppaction://hlinkshowjump?jump=nextslide"/>
          </p:cNvPr>
          <p:cNvSpPr/>
          <p:nvPr/>
        </p:nvSpPr>
        <p:spPr>
          <a:xfrm>
            <a:off x="7451640" y="59500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rId5" action="ppaction://hlinksldjump"/>
          </p:cNvPr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5"/>
          <p:cNvGraphicFramePr/>
          <p:nvPr/>
        </p:nvGraphicFramePr>
        <p:xfrm>
          <a:off x="755640" y="765000"/>
          <a:ext cx="64864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65000"/>
                    <a:ext cx="64864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684360" y="26028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日常檢查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7451640" y="59500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3" action="ppaction://hlinksldjump"/>
          </p:cNvPr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5"/>
          <p:cNvGraphicFramePr/>
          <p:nvPr/>
        </p:nvGraphicFramePr>
        <p:xfrm>
          <a:off x="755640" y="341280"/>
          <a:ext cx="69850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1280"/>
                    <a:ext cx="6985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7380360" y="595008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>
            <a:hlinkClick r:id="rId3" action="ppaction://hlinksldjump"/>
          </p:cNvPr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5"/>
          <p:cNvGraphicFramePr/>
          <p:nvPr/>
        </p:nvGraphicFramePr>
        <p:xfrm>
          <a:off x="622440" y="0"/>
          <a:ext cx="7229160" cy="70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0"/>
                    <a:ext cx="722916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AutoShape 6">
            <a:hlinkClick r:id="" action="ppaction://hlinkshowjump?jump=nextslide"/>
          </p:cNvPr>
          <p:cNvSpPr/>
          <p:nvPr/>
        </p:nvSpPr>
        <p:spPr>
          <a:xfrm>
            <a:off x="7380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>
            <a:hlinkClick r:id="rId3" action="ppaction://hlinksldjump"/>
          </p:cNvPr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#033壓力波型良否判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5"/>
          <p:cNvGraphicFramePr/>
          <p:nvPr/>
        </p:nvGraphicFramePr>
        <p:xfrm>
          <a:off x="658800" y="0"/>
          <a:ext cx="7297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0"/>
                    <a:ext cx="7297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7">
            <a:hlinkClick r:id="rId3" action="ppaction://hlinksldjump"/>
          </p:cNvPr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rId4" action="ppaction://hlinksldjump"/>
          </p:cNvPr>
          <p:cNvSpPr/>
          <p:nvPr/>
        </p:nvSpPr>
        <p:spPr>
          <a:xfrm>
            <a:off x="7451640" y="623736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493"/>
                </a:moveTo>
                <a:lnTo>
                  <a:pt x="9569" y="7493"/>
                </a:lnTo>
                <a:lnTo>
                  <a:pt x="9569" y="12828"/>
                </a:lnTo>
                <a:cubicBezTo>
                  <a:pt x="9569" y="13751"/>
                  <a:pt x="10370" y="14482"/>
                  <a:pt x="11405" y="14482"/>
                </a:cubicBezTo>
                <a:lnTo>
                  <a:pt x="13068" y="14482"/>
                </a:lnTo>
                <a:cubicBezTo>
                  <a:pt x="14103" y="14482"/>
                  <a:pt x="14904" y="13751"/>
                  <a:pt x="14904" y="12828"/>
                </a:cubicBezTo>
                <a:lnTo>
                  <a:pt x="14904" y="7493"/>
                </a:lnTo>
                <a:lnTo>
                  <a:pt x="13068" y="7493"/>
                </a:lnTo>
                <a:lnTo>
                  <a:pt x="16575" y="3985"/>
                </a:lnTo>
                <a:lnTo>
                  <a:pt x="20248" y="7493"/>
                </a:lnTo>
                <a:lnTo>
                  <a:pt x="18412" y="7493"/>
                </a:lnTo>
                <a:lnTo>
                  <a:pt x="18412" y="12828"/>
                </a:lnTo>
                <a:cubicBezTo>
                  <a:pt x="18412" y="15596"/>
                  <a:pt x="15835" y="18155"/>
                  <a:pt x="13068" y="18155"/>
                </a:cubicBezTo>
                <a:lnTo>
                  <a:pt x="11405" y="18155"/>
                </a:lnTo>
                <a:cubicBezTo>
                  <a:pt x="8637" y="18155"/>
                  <a:pt x="6061" y="15596"/>
                  <a:pt x="60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24512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右圖標明了各個安全蓋限位開關的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可用如下方法檢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例如檢查前門開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打開前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請确認自診斷窗口上已顯示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45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前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打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46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前門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打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41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安全棒落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其它開關照此方法檢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No"/>
          <p:cNvPicPr/>
          <p:nvPr/>
        </p:nvPicPr>
        <p:blipFill>
          <a:blip r:embed="rId1"/>
          <a:stretch/>
        </p:blipFill>
        <p:spPr>
          <a:xfrm>
            <a:off x="4427640" y="0"/>
            <a:ext cx="4402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rId2" action="ppaction://hlinksldjump"/>
          </p:cNvPr>
          <p:cNvSpPr/>
          <p:nvPr/>
        </p:nvSpPr>
        <p:spPr>
          <a:xfrm>
            <a:off x="32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7493"/>
                </a:moveTo>
                <a:lnTo>
                  <a:pt x="9561" y="7493"/>
                </a:lnTo>
                <a:lnTo>
                  <a:pt x="9561" y="12828"/>
                </a:lnTo>
                <a:cubicBezTo>
                  <a:pt x="9561" y="13751"/>
                  <a:pt x="10361" y="14482"/>
                  <a:pt x="11397" y="14482"/>
                </a:cubicBezTo>
                <a:lnTo>
                  <a:pt x="13060" y="14482"/>
                </a:lnTo>
                <a:cubicBezTo>
                  <a:pt x="14095" y="14482"/>
                  <a:pt x="14896" y="13751"/>
                  <a:pt x="14896" y="12828"/>
                </a:cubicBezTo>
                <a:lnTo>
                  <a:pt x="14896" y="7493"/>
                </a:lnTo>
                <a:lnTo>
                  <a:pt x="13060" y="7493"/>
                </a:lnTo>
                <a:lnTo>
                  <a:pt x="16567" y="3985"/>
                </a:lnTo>
                <a:lnTo>
                  <a:pt x="20240" y="7493"/>
                </a:lnTo>
                <a:lnTo>
                  <a:pt x="18404" y="7493"/>
                </a:lnTo>
                <a:lnTo>
                  <a:pt x="18404" y="12828"/>
                </a:lnTo>
                <a:cubicBezTo>
                  <a:pt x="18404" y="15596"/>
                  <a:pt x="15827" y="18155"/>
                  <a:pt x="13060" y="18155"/>
                </a:cubicBezTo>
                <a:lnTo>
                  <a:pt x="11397" y="18155"/>
                </a:lnTo>
                <a:cubicBezTo>
                  <a:pt x="8629" y="18155"/>
                  <a:pt x="6053" y="15596"/>
                  <a:pt x="6053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465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右圖為各行程限位開關的位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可用如下方法檢查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以射出單元為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卸下射出單元固定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按下射出單元前進端、后退端的限位開關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請确認自診斷口上已顯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98 </a:t>
            </a:r>
            <a:r>
              <a:rPr b="0" lang="zh-TW" sz="2100" spc="-1" strike="noStrike">
                <a:solidFill>
                  <a:srgbClr val="ff0000"/>
                </a:solidFill>
                <a:latin typeface="Arial"/>
              </a:rPr>
              <a:t>超過行程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2100" spc="-1" strike="noStrike">
                <a:solidFill>
                  <a:srgbClr val="ff0000"/>
                </a:solidFill>
                <a:latin typeface="Arial"/>
              </a:rPr>
              <a:t>噴注部分向前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99 </a:t>
            </a:r>
            <a:r>
              <a:rPr b="0" lang="zh-TW" sz="2100" spc="-1" strike="noStrike">
                <a:solidFill>
                  <a:srgbClr val="ff0000"/>
                </a:solidFill>
                <a:latin typeface="Arial"/>
              </a:rPr>
              <a:t>超過行程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2100" spc="-1" strike="noStrike">
                <a:solidFill>
                  <a:srgbClr val="ff0000"/>
                </a:solidFill>
                <a:latin typeface="Arial"/>
              </a:rPr>
              <a:t>噴注部分向后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合模部行程限位開關照此方法檢查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No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>
            <a:hlinkClick r:id="rId2" action="ppaction://hlinksldjump"/>
          </p:cNvPr>
          <p:cNvSpPr/>
          <p:nvPr/>
        </p:nvSpPr>
        <p:spPr>
          <a:xfrm>
            <a:off x="32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7493"/>
                </a:moveTo>
                <a:lnTo>
                  <a:pt x="9561" y="7493"/>
                </a:lnTo>
                <a:lnTo>
                  <a:pt x="9561" y="12828"/>
                </a:lnTo>
                <a:cubicBezTo>
                  <a:pt x="9561" y="13751"/>
                  <a:pt x="10361" y="14482"/>
                  <a:pt x="11397" y="14482"/>
                </a:cubicBezTo>
                <a:lnTo>
                  <a:pt x="13060" y="14482"/>
                </a:lnTo>
                <a:cubicBezTo>
                  <a:pt x="14095" y="14482"/>
                  <a:pt x="14896" y="13751"/>
                  <a:pt x="14896" y="12828"/>
                </a:cubicBezTo>
                <a:lnTo>
                  <a:pt x="14896" y="7493"/>
                </a:lnTo>
                <a:lnTo>
                  <a:pt x="13060" y="7493"/>
                </a:lnTo>
                <a:lnTo>
                  <a:pt x="16567" y="3985"/>
                </a:lnTo>
                <a:lnTo>
                  <a:pt x="20240" y="7493"/>
                </a:lnTo>
                <a:lnTo>
                  <a:pt x="18404" y="7493"/>
                </a:lnTo>
                <a:lnTo>
                  <a:pt x="18404" y="12828"/>
                </a:lnTo>
                <a:cubicBezTo>
                  <a:pt x="18404" y="15596"/>
                  <a:pt x="15827" y="18155"/>
                  <a:pt x="13060" y="18155"/>
                </a:cubicBezTo>
                <a:lnTo>
                  <a:pt x="11397" y="18155"/>
                </a:lnTo>
                <a:cubicBezTo>
                  <a:pt x="8629" y="18155"/>
                  <a:pt x="6053" y="15596"/>
                  <a:pt x="6053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</a:rPr>
              <a:t>請按照如下方法進行加熱器檢查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顯示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#1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溫度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畫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溫度控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設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在确認加熱器的溫度已經完全下降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确認加熱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熱電偶電纜的安裝沒有松動和松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設定噴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料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料筒下的溫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溫度控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設定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确認各區間的溫度已經上升到設定的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7380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#013溫度設定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3"/>
          <p:cNvSpPr/>
          <p:nvPr/>
        </p:nvSpPr>
        <p:spPr>
          <a:xfrm>
            <a:off x="3419640" y="981000"/>
            <a:ext cx="1439640" cy="503280"/>
          </a:xfrm>
          <a:prstGeom prst="wedgeRoundRectCallout">
            <a:avLst>
              <a:gd name="adj1" fmla="val -103361"/>
              <a:gd name="adj2" fmla="val -109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溫度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3559320" y="3249720"/>
            <a:ext cx="3608280" cy="53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580000" y="4797360"/>
            <a:ext cx="1656000" cy="503280"/>
          </a:xfrm>
          <a:prstGeom prst="wedgeRoundRectCallout">
            <a:avLst>
              <a:gd name="adj1" fmla="val -63328"/>
              <a:gd name="adj2" fmla="val -2613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設定溫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8532720" y="59500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333360"/>
            <a:ext cx="518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皮帶的檢查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下圖顯示各個同步皮帶的位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No"/>
          <p:cNvPicPr/>
          <p:nvPr/>
        </p:nvPicPr>
        <p:blipFill>
          <a:blip r:embed="rId1"/>
          <a:stretch/>
        </p:blipFill>
        <p:spPr>
          <a:xfrm>
            <a:off x="0" y="155088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752472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30066"/>
                </a:solidFill>
                <a:latin typeface="Arial"/>
              </a:rPr>
              <a:t>二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. </a:t>
            </a:r>
            <a:r>
              <a:rPr b="1" lang="zh-TW" sz="2600" spc="-1" strike="noStrike">
                <a:solidFill>
                  <a:srgbClr val="330066"/>
                </a:solidFill>
                <a:latin typeface="Arial"/>
              </a:rPr>
              <a:t>皮帶張力的确認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721044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檢查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如下圖所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用手指輕輕的按住同步皮帶的皮帶的中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确認張力是否太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以下列出各同步皮帶的大致 的張力基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為了得到各圖上所示的皮帶的撓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推壓時的推壓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若是圖中記載的范圍的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皮帶張力就接近适當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未命名 -1"/>
          <p:cNvPicPr/>
          <p:nvPr/>
        </p:nvPicPr>
        <p:blipFill>
          <a:blip r:embed="rId1"/>
          <a:stretch/>
        </p:blipFill>
        <p:spPr>
          <a:xfrm>
            <a:off x="179280" y="2205000"/>
            <a:ext cx="8317080" cy="36417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752472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397044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皮帶狀的确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3" descr="No"/>
          <p:cNvPicPr/>
          <p:nvPr/>
        </p:nvPicPr>
        <p:blipFill>
          <a:blip r:embed="rId1"/>
          <a:stretch/>
        </p:blipFill>
        <p:spPr>
          <a:xfrm>
            <a:off x="5435640" y="692280"/>
            <a:ext cx="3470400" cy="5903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539640" y="1413000"/>
            <a:ext cx="417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皮帶輪齒的磨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輪齒寬的大約一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皮帶的齒根部出現裂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輪齒寬的大約一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皮帶反面出現裂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52472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620640"/>
            <a:ext cx="4321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因粘附油跡而引起皮帶膨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膨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皮帶輪齒部的磨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將各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移動到行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m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的位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确認印在各皮帶上的白色標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白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是否偏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工1"/>
          <p:cNvPicPr/>
          <p:nvPr/>
        </p:nvPicPr>
        <p:blipFill>
          <a:blip r:embed="rId1"/>
          <a:stretch/>
        </p:blipFill>
        <p:spPr>
          <a:xfrm>
            <a:off x="5003640" y="0"/>
            <a:ext cx="3930840" cy="64533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395280" y="6093000"/>
            <a:ext cx="576360" cy="47592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6155" h="21600">
                <a:moveTo>
                  <a:pt x="0" y="0"/>
                </a:moveTo>
                <a:lnTo>
                  <a:pt x="26155" y="0"/>
                </a:lnTo>
                <a:lnTo>
                  <a:pt x="26155" y="21600"/>
                </a:lnTo>
                <a:lnTo>
                  <a:pt x="0" y="21600"/>
                </a:lnTo>
                <a:close/>
              </a:path>
              <a:path fill="lightenLess" w="26155" h="21600">
                <a:moveTo>
                  <a:pt x="0" y="0"/>
                </a:moveTo>
                <a:lnTo>
                  <a:pt x="26155" y="0"/>
                </a:lnTo>
                <a:lnTo>
                  <a:pt x="24755" y="1400"/>
                </a:lnTo>
                <a:lnTo>
                  <a:pt x="1400" y="1400"/>
                </a:lnTo>
                <a:close/>
              </a:path>
              <a:path fill="darken" w="26155" h="21600">
                <a:moveTo>
                  <a:pt x="26155" y="0"/>
                </a:moveTo>
                <a:lnTo>
                  <a:pt x="26155" y="21600"/>
                </a:lnTo>
                <a:lnTo>
                  <a:pt x="24755" y="20200"/>
                </a:lnTo>
                <a:lnTo>
                  <a:pt x="24755" y="1400"/>
                </a:lnTo>
                <a:close/>
              </a:path>
              <a:path fill="darkenLess" w="26155" h="21600">
                <a:moveTo>
                  <a:pt x="26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5" y="20200"/>
                </a:lnTo>
                <a:close/>
              </a:path>
              <a:path fill="lighten" w="26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5" h="21600">
                <a:moveTo>
                  <a:pt x="6071" y="7493"/>
                </a:moveTo>
                <a:lnTo>
                  <a:pt x="9579" y="7493"/>
                </a:lnTo>
                <a:lnTo>
                  <a:pt x="9579" y="12828"/>
                </a:lnTo>
                <a:cubicBezTo>
                  <a:pt x="9579" y="13751"/>
                  <a:pt x="10379" y="14482"/>
                  <a:pt x="11415" y="14482"/>
                </a:cubicBezTo>
                <a:lnTo>
                  <a:pt x="13078" y="14482"/>
                </a:lnTo>
                <a:cubicBezTo>
                  <a:pt x="14113" y="14482"/>
                  <a:pt x="14914" y="13751"/>
                  <a:pt x="14914" y="12828"/>
                </a:cubicBezTo>
                <a:lnTo>
                  <a:pt x="14914" y="7493"/>
                </a:lnTo>
                <a:lnTo>
                  <a:pt x="13078" y="7493"/>
                </a:lnTo>
                <a:lnTo>
                  <a:pt x="16585" y="3985"/>
                </a:lnTo>
                <a:lnTo>
                  <a:pt x="20258" y="7493"/>
                </a:lnTo>
                <a:lnTo>
                  <a:pt x="18422" y="7493"/>
                </a:lnTo>
                <a:lnTo>
                  <a:pt x="18422" y="12828"/>
                </a:lnTo>
                <a:cubicBezTo>
                  <a:pt x="18422" y="15596"/>
                  <a:pt x="15845" y="18155"/>
                  <a:pt x="13078" y="18155"/>
                </a:cubicBezTo>
                <a:lnTo>
                  <a:pt x="11415" y="18155"/>
                </a:lnTo>
                <a:cubicBezTo>
                  <a:pt x="8647" y="18155"/>
                  <a:pt x="6071" y="15596"/>
                  <a:pt x="607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93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動部的檢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合模部檢查如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請卸下合模部的固定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确認各部的螺栓或螺母是否松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特別要注意固定合模机构部的齒輪的螺釘是否松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見下圖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同時要确認控制部內的電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以避免出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摩擦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彎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拉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等現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No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7308720" y="189000"/>
            <a:ext cx="574920" cy="3585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621" h="21600">
                <a:moveTo>
                  <a:pt x="0" y="0"/>
                </a:moveTo>
                <a:lnTo>
                  <a:pt x="34621" y="0"/>
                </a:lnTo>
                <a:lnTo>
                  <a:pt x="34621" y="21600"/>
                </a:lnTo>
                <a:lnTo>
                  <a:pt x="0" y="21600"/>
                </a:lnTo>
                <a:close/>
              </a:path>
              <a:path fill="lightenLess" w="34621" h="21600">
                <a:moveTo>
                  <a:pt x="0" y="0"/>
                </a:moveTo>
                <a:lnTo>
                  <a:pt x="34621" y="0"/>
                </a:lnTo>
                <a:lnTo>
                  <a:pt x="33221" y="1400"/>
                </a:lnTo>
                <a:lnTo>
                  <a:pt x="1400" y="1400"/>
                </a:lnTo>
                <a:close/>
              </a:path>
              <a:path fill="darken" w="34621" h="21600">
                <a:moveTo>
                  <a:pt x="34621" y="0"/>
                </a:moveTo>
                <a:lnTo>
                  <a:pt x="34621" y="21600"/>
                </a:lnTo>
                <a:lnTo>
                  <a:pt x="33221" y="20200"/>
                </a:lnTo>
                <a:lnTo>
                  <a:pt x="33221" y="1400"/>
                </a:lnTo>
                <a:close/>
              </a:path>
              <a:path fill="darkenLess" w="34621" h="21600">
                <a:moveTo>
                  <a:pt x="3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1" y="20200"/>
                </a:lnTo>
                <a:close/>
              </a:path>
              <a:path fill="lighten" w="3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1" h="21600">
                <a:moveTo>
                  <a:pt x="10304" y="10800"/>
                </a:moveTo>
                <a:lnTo>
                  <a:pt x="24317" y="3794"/>
                </a:lnTo>
                <a:lnTo>
                  <a:pt x="2431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7524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#034計量旋矩良否判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777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射出部的檢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請卸下合模部的固定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确認各部的螺栓或螺母是否松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同時要确認控制部內的電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以避免出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摩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彎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拉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等現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噴嘴接触部的檢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請卸下合模部的固定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确認各部的螺栓或螺母是否松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滾珠絲杠部的檢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若在短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全長的三分之一以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下使用滾珠絲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潤滑油就不能潤滑整個螺母從而影響其壽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更換模具和清料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我們建議用戶盡可能在全行程下轉動各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長時間連續進行相同的注塑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我們建議用戶每周一次定期地在全行程下轉動各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7308720" y="6165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493"/>
                </a:moveTo>
                <a:lnTo>
                  <a:pt x="9569" y="7493"/>
                </a:lnTo>
                <a:lnTo>
                  <a:pt x="9569" y="12828"/>
                </a:lnTo>
                <a:cubicBezTo>
                  <a:pt x="9569" y="13751"/>
                  <a:pt x="10370" y="14482"/>
                  <a:pt x="11405" y="14482"/>
                </a:cubicBezTo>
                <a:lnTo>
                  <a:pt x="13068" y="14482"/>
                </a:lnTo>
                <a:cubicBezTo>
                  <a:pt x="14103" y="14482"/>
                  <a:pt x="14904" y="13751"/>
                  <a:pt x="14904" y="12828"/>
                </a:cubicBezTo>
                <a:lnTo>
                  <a:pt x="14904" y="7493"/>
                </a:lnTo>
                <a:lnTo>
                  <a:pt x="13068" y="7493"/>
                </a:lnTo>
                <a:lnTo>
                  <a:pt x="16575" y="3985"/>
                </a:lnTo>
                <a:lnTo>
                  <a:pt x="20248" y="7493"/>
                </a:lnTo>
                <a:lnTo>
                  <a:pt x="18412" y="7493"/>
                </a:lnTo>
                <a:lnTo>
                  <a:pt x="18412" y="12828"/>
                </a:lnTo>
                <a:cubicBezTo>
                  <a:pt x="18412" y="15596"/>
                  <a:pt x="15835" y="18155"/>
                  <a:pt x="13068" y="18155"/>
                </a:cubicBezTo>
                <a:lnTo>
                  <a:pt x="11405" y="18155"/>
                </a:lnTo>
                <a:cubicBezTo>
                  <a:pt x="8637" y="18155"/>
                  <a:pt x="6061" y="15596"/>
                  <a:pt x="60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o"/>
          <p:cNvPicPr/>
          <p:nvPr/>
        </p:nvPicPr>
        <p:blipFill>
          <a:blip r:embed="rId1"/>
          <a:stretch/>
        </p:blipFill>
        <p:spPr>
          <a:xfrm>
            <a:off x="250920" y="2349360"/>
            <a:ext cx="3787560" cy="388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79280" y="260280"/>
            <a:ext cx="468000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各部潤滑狀態的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對于沒有潤滑配管的部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檢查手動潤滑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的潤滑油是否變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有污跡或固化請去掉用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的潤滑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用刷子等進行手動潤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自動潤滑部是否正常潤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No"/>
          <p:cNvPicPr/>
          <p:nvPr/>
        </p:nvPicPr>
        <p:blipFill>
          <a:blip r:embed="rId2"/>
          <a:stretch/>
        </p:blipFill>
        <p:spPr>
          <a:xfrm>
            <a:off x="4932360" y="981000"/>
            <a:ext cx="3960720" cy="3718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79280" y="630864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潤滑部是否有异物粘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788000" y="189000"/>
            <a:ext cx="43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潤滑油罐的液位是否處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-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以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肘節絕緣管部是否正常潤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788000" y="5013360"/>
            <a:ext cx="410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潤滑位置是否粘附太多的潤滑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是否在潤滑油罐內還有潤滑油時就發生無潤滑油報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81200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6877080" y="630864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#041工程監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#042工程監視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#043生產管理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#051模具文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#052軟驅存取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>
            <a:hlinkClick r:id="rId2" action="ppaction://hlinksldjump"/>
          </p:cNvPr>
          <p:cNvSpPr/>
          <p:nvPr/>
        </p:nvSpPr>
        <p:spPr>
          <a:xfrm>
            <a:off x="8567640" y="6022800"/>
            <a:ext cx="397080" cy="358920"/>
          </a:xfrm>
          <a:custGeom>
            <a:avLst/>
            <a:gdLst>
              <a:gd name="textAreaLeft" fmla="*/ 23040 w 397080"/>
              <a:gd name="textAreaRight" fmla="*/ 374040 w 397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894" h="21600">
                <a:moveTo>
                  <a:pt x="0" y="0"/>
                </a:moveTo>
                <a:lnTo>
                  <a:pt x="23894" y="0"/>
                </a:lnTo>
                <a:lnTo>
                  <a:pt x="23894" y="21600"/>
                </a:lnTo>
                <a:lnTo>
                  <a:pt x="0" y="21600"/>
                </a:lnTo>
                <a:close/>
              </a:path>
              <a:path fill="lightenLess" w="23894" h="21600">
                <a:moveTo>
                  <a:pt x="0" y="0"/>
                </a:moveTo>
                <a:lnTo>
                  <a:pt x="23894" y="0"/>
                </a:lnTo>
                <a:lnTo>
                  <a:pt x="22494" y="1400"/>
                </a:lnTo>
                <a:lnTo>
                  <a:pt x="1400" y="1400"/>
                </a:lnTo>
                <a:close/>
              </a:path>
              <a:path fill="darken" w="23894" h="21600">
                <a:moveTo>
                  <a:pt x="23894" y="0"/>
                </a:moveTo>
                <a:lnTo>
                  <a:pt x="23894" y="21600"/>
                </a:lnTo>
                <a:lnTo>
                  <a:pt x="22494" y="20200"/>
                </a:lnTo>
                <a:lnTo>
                  <a:pt x="22494" y="1400"/>
                </a:lnTo>
                <a:close/>
              </a:path>
              <a:path fill="darkenLess" w="23894" h="21600">
                <a:moveTo>
                  <a:pt x="23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94" y="20200"/>
                </a:lnTo>
                <a:close/>
              </a:path>
              <a:path fill="lighten" w="23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94" h="21600">
                <a:moveTo>
                  <a:pt x="4941" y="7493"/>
                </a:moveTo>
                <a:lnTo>
                  <a:pt x="8448" y="7493"/>
                </a:lnTo>
                <a:lnTo>
                  <a:pt x="8448" y="12828"/>
                </a:lnTo>
                <a:cubicBezTo>
                  <a:pt x="8448" y="13751"/>
                  <a:pt x="9249" y="14482"/>
                  <a:pt x="10285" y="14482"/>
                </a:cubicBezTo>
                <a:lnTo>
                  <a:pt x="11947" y="14482"/>
                </a:lnTo>
                <a:cubicBezTo>
                  <a:pt x="12983" y="14482"/>
                  <a:pt x="13784" y="13751"/>
                  <a:pt x="13784" y="12828"/>
                </a:cubicBezTo>
                <a:lnTo>
                  <a:pt x="13784" y="7493"/>
                </a:lnTo>
                <a:lnTo>
                  <a:pt x="11947" y="7493"/>
                </a:lnTo>
                <a:lnTo>
                  <a:pt x="15455" y="3985"/>
                </a:lnTo>
                <a:lnTo>
                  <a:pt x="19128" y="7493"/>
                </a:lnTo>
                <a:lnTo>
                  <a:pt x="17291" y="7493"/>
                </a:lnTo>
                <a:lnTo>
                  <a:pt x="17291" y="12828"/>
                </a:lnTo>
                <a:cubicBezTo>
                  <a:pt x="17291" y="15596"/>
                  <a:pt x="14715" y="18155"/>
                  <a:pt x="11947" y="18155"/>
                </a:cubicBezTo>
                <a:lnTo>
                  <a:pt x="10285" y="18155"/>
                </a:lnTo>
                <a:cubicBezTo>
                  <a:pt x="7517" y="18155"/>
                  <a:pt x="4941" y="15596"/>
                  <a:pt x="494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2:24:52Z</dcterms:created>
  <dc:creator>XP</dc:creator>
  <dc:description/>
  <dc:language>en-US</dc:language>
  <cp:lastModifiedBy>admin</cp:lastModifiedBy>
  <dcterms:modified xsi:type="dcterms:W3CDTF">2016-10-31T03:34:49Z</dcterms:modified>
  <cp:revision>92</cp:revision>
  <dc:subject/>
  <dc:title>FANUC ROBOSHOT S-2000i</dc:title>
</cp:coreProperties>
</file>